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411-54B4-4347-9A7A-E738D7F1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189-729C-4C92-B71F-36052493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36C8-2E09-4E77-9410-C2357DEB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93D-C814-4894-8BF1-ED4AFA83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03B-36DC-4DF0-A85A-DEE7950D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A265-16A3-4BFC-978F-6B804D6B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2CEC-AEF2-451A-99AF-28960C79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B2C-0C53-4E61-AAE2-E8507A04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AC0-03B5-4E56-A9EF-13C3A5BB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ADC-7A9A-4928-B8A5-28B4DA9D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65C-EB0A-4CCC-9264-402F960A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5AA7-5E0F-4430-8E06-93B4E839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ECCC-D2FE-4BBF-AB7C-FD951CC7083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2f2f2"/>
                </a:solidFill>
                <a:latin typeface="Arial"/>
              </a:rPr>
              <a:t>Let’s Learn Animal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with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安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猫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(m</a:t>
            </a: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34920" y="2060640"/>
            <a:ext cx="5483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猫喜欢睡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:\Users\Leandra's Thingy\AppData\Local\Microsoft\Windows\Temporary Internet Files\Content.IE5\95B97URE\MC900434591[1].wmf"/>
          <p:cNvPicPr/>
          <p:nvPr/>
        </p:nvPicPr>
        <p:blipFill>
          <a:blip r:embed="rId1"/>
          <a:stretch/>
        </p:blipFill>
        <p:spPr>
          <a:xfrm>
            <a:off x="3348000" y="2867040"/>
            <a:ext cx="27367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Callout 8"/>
          <p:cNvSpPr/>
          <p:nvPr/>
        </p:nvSpPr>
        <p:spPr>
          <a:xfrm>
            <a:off x="2340000" y="1557360"/>
            <a:ext cx="1706400" cy="1366920"/>
          </a:xfrm>
          <a:prstGeom prst="wedgeEllipseCallout">
            <a:avLst>
              <a:gd name="adj1" fmla="val 27541"/>
              <a:gd name="adj2" fmla="val 6157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狗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(gŏ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979640" y="191628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往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:\Users\Leandra's Thingy\AppData\Local\Microsoft\Windows\Temporary Internet Files\Content.IE5\95B97URE\MC900434587[1].wmf"/>
          <p:cNvPicPr/>
          <p:nvPr/>
        </p:nvPicPr>
        <p:blipFill>
          <a:blip r:embed="rId1"/>
          <a:stretch/>
        </p:blipFill>
        <p:spPr>
          <a:xfrm>
            <a:off x="3419640" y="2708280"/>
            <a:ext cx="2800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鸟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(ni</a:t>
            </a:r>
            <a:r>
              <a:rPr b="0" lang="vi-VN" sz="4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Leandra's Thingy\AppData\Local\Microsoft\Windows\Temporary Internet Files\Content.IE5\4YPCUBZP\MC900435073[1].wmf"/>
          <p:cNvPicPr/>
          <p:nvPr/>
        </p:nvPicPr>
        <p:blipFill>
          <a:blip r:embed="rId1"/>
          <a:stretch/>
        </p:blipFill>
        <p:spPr>
          <a:xfrm>
            <a:off x="3492360" y="1844640"/>
            <a:ext cx="2055960" cy="3448080"/>
          </a:xfrm>
          <a:prstGeom prst="rect">
            <a:avLst/>
          </a:prstGeom>
          <a:ln w="0">
            <a:noFill/>
          </a:ln>
        </p:spPr>
      </p:pic>
      <p:sp>
        <p:nvSpPr>
          <p:cNvPr id="52" name="Oval Callout 5"/>
          <p:cNvSpPr/>
          <p:nvPr/>
        </p:nvSpPr>
        <p:spPr>
          <a:xfrm>
            <a:off x="1403280" y="1197000"/>
            <a:ext cx="2305080" cy="1368360"/>
          </a:xfrm>
          <a:prstGeom prst="wedgeEllipseCallout">
            <a:avLst>
              <a:gd name="adj1" fmla="val 57449"/>
              <a:gd name="adj2" fmla="val 4603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835280" y="155736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揪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兔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(t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95280" y="1557000"/>
            <a:ext cx="454644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兔喜欢胡萝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hú luób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Users\Leandra's Thingy\AppData\Local\Microsoft\Windows\Temporary Internet Files\Content.IE5\4YPCUBZP\MC900417444[1].wmf"/>
          <p:cNvPicPr/>
          <p:nvPr/>
        </p:nvPicPr>
        <p:blipFill>
          <a:blip r:embed="rId1"/>
          <a:stretch/>
        </p:blipFill>
        <p:spPr>
          <a:xfrm>
            <a:off x="3348000" y="2492280"/>
            <a:ext cx="251928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猪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(zhū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Users\Leandra's Thingy\AppData\Local\Microsoft\Windows\Temporary Internet Files\Content.IE5\H5VAPBH1\MC900445112[1].wmf"/>
          <p:cNvPicPr/>
          <p:nvPr/>
        </p:nvPicPr>
        <p:blipFill>
          <a:blip r:embed="rId1"/>
          <a:stretch/>
        </p:blipFill>
        <p:spPr>
          <a:xfrm>
            <a:off x="3276720" y="2349360"/>
            <a:ext cx="2589120" cy="2443320"/>
          </a:xfrm>
          <a:prstGeom prst="rect">
            <a:avLst/>
          </a:prstGeom>
          <a:ln w="0">
            <a:noFill/>
          </a:ln>
        </p:spPr>
      </p:pic>
      <p:sp>
        <p:nvSpPr>
          <p:cNvPr id="59" name="Oval Callout 6"/>
          <p:cNvSpPr/>
          <p:nvPr/>
        </p:nvSpPr>
        <p:spPr>
          <a:xfrm>
            <a:off x="1692360" y="1341360"/>
            <a:ext cx="1942920" cy="1224000"/>
          </a:xfrm>
          <a:prstGeom prst="wedgeEllipseCallout">
            <a:avLst>
              <a:gd name="adj1" fmla="val 25537"/>
              <a:gd name="adj2" fmla="val 64601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哼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鲨鱼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(shāy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C:\Users\Leandra's Thingy\AppData\Local\Microsoft\Windows\Temporary Internet Files\Content.IE5\4YPCUBZP\MC900232666[1].wmf"/>
          <p:cNvPicPr/>
          <p:nvPr/>
        </p:nvPicPr>
        <p:blipFill>
          <a:blip r:embed="rId1"/>
          <a:stretch/>
        </p:blipFill>
        <p:spPr>
          <a:xfrm>
            <a:off x="2268360" y="1989000"/>
            <a:ext cx="42897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恐龙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(kŏngló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C:\Users\Leandra's Thingy\AppData\Local\Microsoft\Windows\Temporary Internet Files\Content.IE5\4YPCUBZP\MC900192173[1].wmf"/>
          <p:cNvPicPr/>
          <p:nvPr/>
        </p:nvPicPr>
        <p:blipFill>
          <a:blip r:embed="rId1"/>
          <a:stretch/>
        </p:blipFill>
        <p:spPr>
          <a:xfrm>
            <a:off x="2916360" y="1628640"/>
            <a:ext cx="467172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IU, RUZHEN</cp:lastModifiedBy>
  <dcterms:modified xsi:type="dcterms:W3CDTF">2013-05-20T16:03:00Z</dcterms:modified>
  <cp:revision>450</cp:revision>
  <dc:subject/>
  <dc:title>Diapositiva 1</dc:title>
</cp:coreProperties>
</file>