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A1F-3606-4300-97C3-5D6D3F7F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5C6-57EC-43A7-B494-916D6CA4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803-5322-419E-A5F6-24AD8281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7C6-42F8-4F5C-9107-58B7B440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291-E102-4B96-96B9-D1B2BEB9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743-82B8-442D-8288-51C925D2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736-E97C-4681-8304-77B779A1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B1F-C818-44B4-91FA-33ECFF24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632-65F3-4C60-8274-132D7F1E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843-7477-46F8-B3D3-CFFD7A0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D78-7175-4ACB-9309-91F7BC7D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70E-6193-4235-98DA-8083F7F5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2701-597D-465A-A791-ABCB860E27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Let’s Learn Animal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with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安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猫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(m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34920" y="2060640"/>
            <a:ext cx="5483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猫喜欢睡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Users\Leandra's Thingy\AppData\Local\Microsoft\Windows\Temporary Internet Files\Content.IE5\95B97URE\MC900434591[1].wmf"/>
          <p:cNvPicPr/>
          <p:nvPr/>
        </p:nvPicPr>
        <p:blipFill>
          <a:blip r:embed="rId1"/>
          <a:stretch/>
        </p:blipFill>
        <p:spPr>
          <a:xfrm>
            <a:off x="3348000" y="2867040"/>
            <a:ext cx="27367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Callout 8"/>
          <p:cNvSpPr/>
          <p:nvPr/>
        </p:nvSpPr>
        <p:spPr>
          <a:xfrm>
            <a:off x="2340000" y="1557360"/>
            <a:ext cx="1706400" cy="1366920"/>
          </a:xfrm>
          <a:prstGeom prst="wedgeEllipseCallout">
            <a:avLst>
              <a:gd name="adj1" fmla="val 27541"/>
              <a:gd name="adj2" fmla="val 6157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狗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(gŏ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979640" y="191628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往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:\Users\Leandra's Thingy\AppData\Local\Microsoft\Windows\Temporary Internet Files\Content.IE5\95B97URE\MC900434587[1].wmf"/>
          <p:cNvPicPr/>
          <p:nvPr/>
        </p:nvPicPr>
        <p:blipFill>
          <a:blip r:embed="rId1"/>
          <a:stretch/>
        </p:blipFill>
        <p:spPr>
          <a:xfrm>
            <a:off x="3419640" y="2708280"/>
            <a:ext cx="2800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鸟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(ni</a:t>
            </a:r>
            <a:r>
              <a:rPr b="0" lang="vi-VN" sz="4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Leandra's Thingy\AppData\Local\Microsoft\Windows\Temporary Internet Files\Content.IE5\4YPCUBZP\MC900435073[1].wmf"/>
          <p:cNvPicPr/>
          <p:nvPr/>
        </p:nvPicPr>
        <p:blipFill>
          <a:blip r:embed="rId1"/>
          <a:stretch/>
        </p:blipFill>
        <p:spPr>
          <a:xfrm>
            <a:off x="3492360" y="1844640"/>
            <a:ext cx="2055960" cy="3448080"/>
          </a:xfrm>
          <a:prstGeom prst="rect">
            <a:avLst/>
          </a:prstGeom>
          <a:ln w="0">
            <a:noFill/>
          </a:ln>
        </p:spPr>
      </p:pic>
      <p:sp>
        <p:nvSpPr>
          <p:cNvPr id="52" name="Oval Callout 5"/>
          <p:cNvSpPr/>
          <p:nvPr/>
        </p:nvSpPr>
        <p:spPr>
          <a:xfrm>
            <a:off x="1403280" y="1197000"/>
            <a:ext cx="2305080" cy="1368360"/>
          </a:xfrm>
          <a:prstGeom prst="wedgeEllipseCallout">
            <a:avLst>
              <a:gd name="adj1" fmla="val 57449"/>
              <a:gd name="adj2" fmla="val 4603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835280" y="1557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揪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兔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(t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95280" y="1557000"/>
            <a:ext cx="454644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兔喜欢胡萝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hú luób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Leandra's Thingy\AppData\Local\Microsoft\Windows\Temporary Internet Files\Content.IE5\4YPCUBZP\MC900417444[1].wmf"/>
          <p:cNvPicPr/>
          <p:nvPr/>
        </p:nvPicPr>
        <p:blipFill>
          <a:blip r:embed="rId1"/>
          <a:stretch/>
        </p:blipFill>
        <p:spPr>
          <a:xfrm>
            <a:off x="3348000" y="2492280"/>
            <a:ext cx="251928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猪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Users\Leandra's Thingy\AppData\Local\Microsoft\Windows\Temporary Internet Files\Content.IE5\H5VAPBH1\MC900445112[1].wmf"/>
          <p:cNvPicPr/>
          <p:nvPr/>
        </p:nvPicPr>
        <p:blipFill>
          <a:blip r:embed="rId1"/>
          <a:stretch/>
        </p:blipFill>
        <p:spPr>
          <a:xfrm>
            <a:off x="3276720" y="2349360"/>
            <a:ext cx="2589120" cy="2443320"/>
          </a:xfrm>
          <a:prstGeom prst="rect">
            <a:avLst/>
          </a:prstGeom>
          <a:ln w="0">
            <a:noFill/>
          </a:ln>
        </p:spPr>
      </p:pic>
      <p:sp>
        <p:nvSpPr>
          <p:cNvPr id="59" name="Oval Callout 6"/>
          <p:cNvSpPr/>
          <p:nvPr/>
        </p:nvSpPr>
        <p:spPr>
          <a:xfrm>
            <a:off x="1692360" y="1341360"/>
            <a:ext cx="1942920" cy="1224000"/>
          </a:xfrm>
          <a:prstGeom prst="wedgeEllipseCallout">
            <a:avLst>
              <a:gd name="adj1" fmla="val 25537"/>
              <a:gd name="adj2" fmla="val 6460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哼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鲨鱼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(shāy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:\Users\Leandra's Thingy\AppData\Local\Microsoft\Windows\Temporary Internet Files\Content.IE5\4YPCUBZP\MC900232666[1].wmf"/>
          <p:cNvPicPr/>
          <p:nvPr/>
        </p:nvPicPr>
        <p:blipFill>
          <a:blip r:embed="rId1"/>
          <a:stretch/>
        </p:blipFill>
        <p:spPr>
          <a:xfrm>
            <a:off x="2268360" y="1989000"/>
            <a:ext cx="42897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恐龙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(kŏngló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Users\Leandra's Thingy\AppData\Local\Microsoft\Windows\Temporary Internet Files\Content.IE5\4YPCUBZP\MC900192173[1].wmf"/>
          <p:cNvPicPr/>
          <p:nvPr/>
        </p:nvPicPr>
        <p:blipFill>
          <a:blip r:embed="rId1"/>
          <a:stretch/>
        </p:blipFill>
        <p:spPr>
          <a:xfrm>
            <a:off x="2916360" y="1628640"/>
            <a:ext cx="46717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IU, RUZHEN</cp:lastModifiedBy>
  <dcterms:modified xsi:type="dcterms:W3CDTF">2013-05-20T16:03:00Z</dcterms:modified>
  <cp:revision>450</cp:revision>
  <dc:subject/>
  <dc:title>Diapositiva 1</dc:title>
</cp:coreProperties>
</file>